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F9D2-E3B2-4572-AD84-B801FDE0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0C30-25D4-4B3B-968F-598A525E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0EAB-698E-41E3-85DC-E0A8AEFE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E1FF-122B-408F-907E-284A7BC5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C97F-A88F-466F-89B2-9E8793C0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A865-6D58-44EE-B1EC-39071F6F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F4DA-B6C5-4BD7-9042-AF299409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B0C7-7BA6-4EAC-8090-AC2E0E50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A00F-148D-48CC-8FBE-68AF3DDF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F5C1-4ED9-43EB-B092-454682A6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04B1-5C47-43B5-8BAC-E75F1263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AF08-16EA-48A2-BD97-C66945BA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547D-78AE-401B-81EC-BDB0E96A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4701-0CE0-466D-9B6F-25FFEBB7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7535-585B-4617-AF84-68AB5C36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A75C-ED9C-4EFE-877B-C5DE7D8F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A4E5-1593-4314-A4D9-87E5AA69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B87A-DB43-4F98-B209-985375A2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5409-5693-43B0-9413-627F561F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D2FA-07E1-469A-9A33-38D1E249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CFE-8865-4FD1-897C-A99F3EC6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35DB-3459-408E-A4E3-581636FC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8531-8983-4A35-A36C-6ED9E424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F0BD-A1E7-4FD6-B6AA-C4B501A9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8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C4E8-0B40-494E-A718-248A5CCAE1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8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5BBD-32E1-440F-8645-0E0C40C048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Урок литературы в 10 класс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979280" y="40762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.В.Коновалова, учитель русского языка и литературы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БОУ СОШ с. Братовщина имени Героя Советского Союза В.С.Севрина Долгоруковского района Липецкой област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A2AA-45ED-4C54-9B7C-27F4F644B98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3"/>
          <p:cNvSpPr/>
          <p:nvPr/>
        </p:nvSpPr>
        <p:spPr>
          <a:xfrm>
            <a:off x="6732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69FE-3DE7-4F6E-BE18-56D52644C6F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атирические приемы, используемые в сказках писателем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7834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осмеяние, имеющее двойной смысл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где истинным является не прямое высказывание, а противоположное -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едкая и ядовитая ирония, резко изобличающая явления, особо опасные для человека и общества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-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предельно резкое преувеличение, сочетание реального и фантастического, нарушение границ правдоподобия -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иной смысл, скрытый за внешней формой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-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художественная речь, основанная на вынужденном иносказании 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чрезмерное преувеличение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4050720" y="198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рония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6471720" y="256536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арказм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1234440" y="342900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ротеск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6718680" y="371628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носказан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1233000" y="4005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ллегория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4957920" y="515772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ипербол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3059280" y="4653000"/>
            <a:ext cx="167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эзопов язык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E6A3-BD2D-4155-A394-9EEC81D4892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казки «для детей изрядного возраст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181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«Сказки»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 — </a:t>
            </a:r>
            <a:r>
              <a:rPr b="0" i="1" lang="ru-RU" sz="2400" spc="-1" strike="noStrike">
                <a:solidFill>
                  <a:srgbClr val="003300"/>
                </a:solidFill>
                <a:latin typeface="Comic Sans MS"/>
              </a:rPr>
              <a:t>это своеобразный итог художественной деятельности писателя: они создавались на завершающем этапе жизненного и творческого пути. Из 32 сказок 28 созданы в течение четырех лет, с 1882 по 1886 год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5651640" y="1916280"/>
            <a:ext cx="27781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8151-8E4A-418D-BD67-F3E8F1B2C79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сказывание цензор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ебедев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Намерения г. Щедрина издать некоторые свои сказки отдельными брошюрами, стоящими не дороже 3-х копеек, а следовательно для простого народа, более чем странно. То, что г. Щедрин называет сказками, вовсе не отвечает своему названию; его сказки – та же сатира, и сатира едкая, … более или менее направленная против общественного и политического устройства.”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EB1A-BCEE-4754-B867-EC9083522B0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Rectangle 3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2376360" cy="22748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6"/>
          <p:cNvSpPr/>
          <p:nvPr/>
        </p:nvSpPr>
        <p:spPr>
          <a:xfrm>
            <a:off x="576360" y="3490920"/>
            <a:ext cx="18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лекса́ндр II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7" descr=""/>
          <p:cNvPicPr/>
          <p:nvPr/>
        </p:nvPicPr>
        <p:blipFill>
          <a:blip r:embed="rId2"/>
          <a:stretch/>
        </p:blipFill>
        <p:spPr>
          <a:xfrm>
            <a:off x="3419640" y="90792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"/>
          <p:cNvPicPr/>
          <p:nvPr/>
        </p:nvPicPr>
        <p:blipFill>
          <a:blip r:embed="rId3"/>
          <a:stretch/>
        </p:blipFill>
        <p:spPr>
          <a:xfrm>
            <a:off x="1420920" y="3789360"/>
            <a:ext cx="1396800" cy="2016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"/>
          <p:cNvSpPr/>
          <p:nvPr/>
        </p:nvSpPr>
        <p:spPr>
          <a:xfrm>
            <a:off x="1120680" y="6238800"/>
            <a:ext cx="203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раф Толстой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митрий Андреевич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12" descr=""/>
          <p:cNvPicPr/>
          <p:nvPr/>
        </p:nvPicPr>
        <p:blipFill>
          <a:blip r:embed="rId4"/>
          <a:stretch/>
        </p:blipFill>
        <p:spPr>
          <a:xfrm>
            <a:off x="3564000" y="3860640"/>
            <a:ext cx="1546200" cy="18003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3"/>
          <p:cNvSpPr/>
          <p:nvPr/>
        </p:nvSpPr>
        <p:spPr>
          <a:xfrm>
            <a:off x="3635280" y="6165720"/>
            <a:ext cx="210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Николай Павлович ИГНАТЬЕВ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14" descr=""/>
          <p:cNvPicPr/>
          <p:nvPr/>
        </p:nvPicPr>
        <p:blipFill>
          <a:blip r:embed="rId5"/>
          <a:stretch/>
        </p:blipFill>
        <p:spPr>
          <a:xfrm>
            <a:off x="6156360" y="3789360"/>
            <a:ext cx="1693800" cy="20048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5"/>
          <p:cNvSpPr/>
          <p:nvPr/>
        </p:nvSpPr>
        <p:spPr>
          <a:xfrm>
            <a:off x="6567480" y="604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6516720" y="623736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5730480" y="6238800"/>
            <a:ext cx="202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агницкий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ихаил Леонтьевич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A597-690C-427F-A0B5-ADF16031D8D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 вариант. Письменный анализ самостоятельно выбранной сказк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лан анализ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. Основная тема сказки (о чем?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. Главная мысль сказки (зачем?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3. Особенности сюжета. Как в системе действующих лиц раскрывается основная мысль сказки? Особенности образов сказк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) образы-символы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) своеобразие животных;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) близость к народным сказкам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4. Сатирические приемы, использованные автором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5. Особенности  композиции:  вставные  эпизоды,  пейзаж,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ртрет, интерье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6. Соединение фольклорного, фантастического и реальног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 вариант. Написание собственной сказки в духе Салтыкова-Щедрин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A3F2-87B6-4A91-A25F-0472F2BA545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М. Е. Салтыков-Щедри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12" descr="http://hronos.km.ru/img/portrety/salty_shedr.jpg"/>
          <p:cNvPicPr/>
          <p:nvPr/>
        </p:nvPicPr>
        <p:blipFill>
          <a:blip r:embed="rId1"/>
          <a:stretch/>
        </p:blipFill>
        <p:spPr>
          <a:xfrm>
            <a:off x="2050920" y="981000"/>
            <a:ext cx="4608720" cy="51120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8"/>
          <p:cNvSpPr/>
          <p:nvPr/>
        </p:nvSpPr>
        <p:spPr>
          <a:xfrm>
            <a:off x="3704040" y="623736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Comic Sans MS"/>
              </a:rPr>
              <a:t>1826 – 188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A3BB-B0F3-45C9-B138-CD4621085EC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76360" y="981000"/>
            <a:ext cx="6400800" cy="36417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763280" y="2133720"/>
            <a:ext cx="603252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ема урока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.Е. Салтыков-Щедрин – прокурор русской общественной жизни.  «Сказки для детей изрядного возраста» как вершинный жанр в творчестве сатирик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3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F0F5-7C38-4AD8-9DF0-872E9094D76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Цели  и задачи урока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971640" y="1773360"/>
            <a:ext cx="75438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- осознать значимость творчества М.Е. Салтыкова-Щедрина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-  научиться понимать, что жанр сказки позволяет писателю в завуалированной форме обратить внимание на злободневные вопросы общественной жизни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-  уметь читать научный текст и извлекать нужную  информацию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- уметь систематизировать полученный материал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- освоить представление о сатирическом, обличительном мастерстве Салтыкова-Щедрина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- уметь проводить анализ художественного и литературоведческого текста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- уметь кратко излагать свои мысли устно и письменно.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думаем над проблемой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сказывания  Салтыкова-Щедрина о Росси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Во всех странах железные дороги для передвижения служат, а у нас, сверх того, и для воровст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Когда и какой бюрократ не был убежден, что Россия есть пирог, к которому можно свободно подходить и закусыват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Строгость российских законов смягчается необязательностью их исполн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Российская власть должна держать свой народ в состоянии постоянного изумл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блемный вопрос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чему писатель, которого современники называли «прокурором русской общественной жизни», пише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сказк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итогом всего творческого пути делает сборник «Сказки для детей изрядного возраста», ведь сказка – это «нарочитая поэтическая фикция»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Oval 4"/>
          <p:cNvSpPr/>
          <p:nvPr/>
        </p:nvSpPr>
        <p:spPr>
          <a:xfrm>
            <a:off x="2987640" y="2708280"/>
            <a:ext cx="3240000" cy="1584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Сказки для дете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рядного возраст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 особый жан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литической сатир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6"/>
          <p:cNvSpPr/>
          <p:nvPr/>
        </p:nvSpPr>
        <p:spPr>
          <a:xfrm flipV="1">
            <a:off x="5076720" y="2420640"/>
            <a:ext cx="10080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5724360" y="1700280"/>
            <a:ext cx="16560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акт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бщественно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жизн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10"/>
          <p:cNvSpPr/>
          <p:nvPr/>
        </p:nvSpPr>
        <p:spPr>
          <a:xfrm flipH="1" flipV="1">
            <a:off x="3132000" y="2204640"/>
            <a:ext cx="7192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1187280" y="1916280"/>
            <a:ext cx="2089440" cy="1008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Явлен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удожественног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ряд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1547640" y="4365720"/>
            <a:ext cx="2664000" cy="1008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ользован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льклорны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радици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18"/>
          <p:cNvSpPr/>
          <p:nvPr/>
        </p:nvSpPr>
        <p:spPr>
          <a:xfrm flipH="1">
            <a:off x="3132000" y="3933720"/>
            <a:ext cx="719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5148360" y="3860640"/>
            <a:ext cx="5032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5292720" y="4292640"/>
            <a:ext cx="2664000" cy="1152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ользован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личны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атирических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ёмо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21"/>
          <p:cNvSpPr/>
          <p:nvPr/>
        </p:nvSpPr>
        <p:spPr>
          <a:xfrm flipH="1" flipV="1">
            <a:off x="3708000" y="278136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8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91C4-DDB1-4FA8-ABF4-F34E76B0BB9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3167280" cy="2889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3772080" cy="2879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3"/>
          <a:stretch/>
        </p:blipFill>
        <p:spPr>
          <a:xfrm>
            <a:off x="4716360" y="3357720"/>
            <a:ext cx="3672000" cy="3008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"/>
          <p:cNvPicPr/>
          <p:nvPr/>
        </p:nvPicPr>
        <p:blipFill>
          <a:blip r:embed="rId4"/>
          <a:stretch/>
        </p:blipFill>
        <p:spPr>
          <a:xfrm>
            <a:off x="468360" y="3429000"/>
            <a:ext cx="367344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3"/>
          <p:cNvSpPr/>
          <p:nvPr/>
        </p:nvSpPr>
        <p:spPr>
          <a:xfrm>
            <a:off x="6732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24DE-D197-47AD-A532-D21377D5091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87060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КАЗКИ М. Е. САЛТЫКОВА-ЩЕДРИН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26560" y="764640"/>
            <a:ext cx="43167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облемати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амодержавие и угнетенный народ («Медведь на воеводстве», «Орел-меценат»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тношения мужика и барина («Дикий помещик», «Повесть о том, как один мужик двух генералов прокормил»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оложение народа («Коняга», «Кисель»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одлость буржуазии («Либерал», «Карась-идеалист»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русость обывателя («Премудрый пискарь»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авдоискательство («Дурак», «Христова ночь»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859280" y="90792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Художественные особенн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Фольклорные мотивы (сказочный сюжет, народная лексика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Гротес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зопов язы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циальная сатира (сарказм и реальная фантазия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бличение через отрицание (показ дикости и бездуховности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Гиперболизаци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3T13:09:59Z</dcterms:created>
  <dc:creator>дом</dc:creator>
  <dc:description/>
  <dc:language>en-US</dc:language>
  <cp:lastModifiedBy>RePack by Diakov</cp:lastModifiedBy>
  <dcterms:modified xsi:type="dcterms:W3CDTF">2021-11-26T17:56:02Z</dcterms:modified>
  <cp:revision>15</cp:revision>
  <dc:subject/>
  <dc:title>Проблематика и поэтика сказок  М.Е. Салтыкова-Щедрина</dc:title>
</cp:coreProperties>
</file>